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157-4F65-4A8C-8BCF-9C42A367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459-10B5-483D-BBFA-1BAF7D0E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3F7-029A-4906-9E6C-34FD8014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5C4-AFA1-4B4C-AE19-4B90B905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97DE-5E2F-4B90-BD8D-5998C171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B49-C929-4516-B11B-EBF9382F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6CBB-80CA-4622-9C97-401EFE6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6412-1142-4EFE-8D81-C01E5D1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A403-C386-4CFD-973B-8EE4ED18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00C3-1641-4070-98E2-E951114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50E4-F04D-4ADB-83C4-5BFE483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46E-6605-4AD1-9EE3-B41BD42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BBF7-8F77-4764-95B6-E67BF7B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686A-65E6-4D26-A0B8-CEA3BD6B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58A-FAFF-4C65-BA46-5B2FA5C2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1C85-9ACA-42DF-AA8F-61950C60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630F-3937-45BB-AF1D-97F112CC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ED7-8E95-4CE8-B553-8478C4D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FB9-005E-415B-98C1-B0A72CCC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372-E507-4F7F-A382-D4585EA9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E30-F98F-4219-84F5-823F0F4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66E-CC24-40C8-8E9B-D588462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7EF-D04D-4FA0-94A5-E11E045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E68-9EBC-49CB-9BA7-C8670F1C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3AE2-E9F7-40CC-87D2-7928BA74E2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8F5A-0D3F-4AB9-B6D1-392438E790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cc0000"/>
                </a:solidFill>
                <a:latin typeface="Arial"/>
              </a:rPr>
              <a:t>Pol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66"/>
                </a:solidFill>
                <a:latin typeface="Arial"/>
              </a:rPr>
              <a:t>Hi, me and 5e have been learning about Police I would like to tell you a little about them </a:t>
            </a:r>
            <a:r>
              <a:rPr b="0" lang="en-NZ" sz="1600" spc="-1" strike="noStrike">
                <a:solidFill>
                  <a:srgbClr val="003366"/>
                </a:solidFill>
                <a:latin typeface="Arial"/>
              </a:rPr>
              <a:t>5e Xav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78800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Police Weap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tazer, A Gun, Pepper spray, hand cuffs and a B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911760"/>
            <a:ext cx="3924360" cy="29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Police work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lice have lots of jobs like the dispatcher, traffic and burglar ty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881600"/>
            <a:ext cx="234000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d you know that you have to be older than 18 to be a police offic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08636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Ja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ail is a terrible place were people called prisoners are sent when they do bad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Thanks for watc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anks for watching hope you have a great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2:25:07Z</dcterms:created>
  <dc:creator>5e14</dc:creator>
  <dc:description/>
  <dc:language>en-US</dc:language>
  <cp:lastModifiedBy>5e14</cp:lastModifiedBy>
  <dcterms:modified xsi:type="dcterms:W3CDTF">2011-09-08T23:40:46Z</dcterms:modified>
  <cp:revision>6</cp:revision>
  <dc:subject/>
  <dc:title>Police</dc:title>
</cp:coreProperties>
</file>